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00810"/>
        <c:axId val="29620604"/>
      </c:barChart>
      <c:catAx>
        <c:axId val="27900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20604"/>
        <c:crosses val="autoZero"/>
        <c:auto val="1"/>
        <c:lblAlgn val="ctr"/>
        <c:lblOffset val="100"/>
        <c:noMultiLvlLbl val="0"/>
      </c:catAx>
      <c:valAx>
        <c:axId val="29620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00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2E6-2D7E-4735-8C9E-6C5434F7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641-0509-4356-8229-FCFD2BE2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7A3-15FF-4DDF-907D-2B5F353E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487-6BD2-41D6-979D-E538492C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DF19-385F-48CE-A794-40411CC8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1D0-33F7-442D-A639-02476427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3E3-6DF9-4ABF-8284-05BB8B8C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4D4-1AE5-4938-A35A-B7CD2284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75F-18AA-409E-B562-659EF6D8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ECF-8CDE-4359-BBDD-0189B6B8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9B5-4729-460E-A8CD-5E837E07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21E-CD9F-438F-BEDA-1FBA0C33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5301F-994B-4A67-8132-9F8B954983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