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26317"/>
        <c:axId val="46129217"/>
      </c:barChart>
      <c:catAx>
        <c:axId val="67526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29217"/>
        <c:crosses val="autoZero"/>
        <c:auto val="1"/>
        <c:lblAlgn val="ctr"/>
        <c:lblOffset val="100"/>
        <c:noMultiLvlLbl val="0"/>
      </c:catAx>
      <c:valAx>
        <c:axId val="46129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26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B05-F8A5-4963-BA4A-2C33E9CB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BB2-A423-48B8-8549-1AE7734F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866-006C-4D8F-A6EA-1DFDD2F5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18C-05DE-4C80-BC01-72EBB597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5E9-F76D-487A-A5D4-8D1A0ED2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8E4-32F4-4E1A-9ED7-8006D318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C5D-2266-4F46-ACAA-55058E30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86D-A6A2-4B32-8B03-B0078BBE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715-E541-4A93-B397-1624F552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3A0-C520-4CAC-81E1-7FF79913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4FD-8BBC-435B-9009-2BE7D1C1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CAE-0C8C-4D21-AC49-61FC9289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1ACB6-ED05-44E9-8785-BA9AEB568B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