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510194"/>
        <c:axId val="31937422"/>
      </c:barChart>
      <c:catAx>
        <c:axId val="805101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37422"/>
        <c:crosses val="autoZero"/>
        <c:auto val="1"/>
        <c:lblAlgn val="ctr"/>
        <c:lblOffset val="100"/>
        <c:noMultiLvlLbl val="0"/>
      </c:catAx>
      <c:valAx>
        <c:axId val="319374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101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7EE7-6EB9-4E47-A2D4-3C8F982E5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84E5-385A-41A9-92ED-5220A468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AE57-120B-42E6-BAD7-DDA462BB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8904-CC80-465E-8742-CA1E0AFD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28DE-C0F2-4CDD-8C02-250BF652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04BC-83E5-4466-AC97-B1E74605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ED25-3F2F-4BBF-A159-5FC3B9D2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0C52-77E8-4E44-AA7F-91D97D43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9647-E7F9-4836-B67A-D4297150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951A-2329-4E29-833C-5D15A7B0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C866-0532-4EB1-866F-81771FEB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1223-3064-4818-A08C-BBE212FD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C792D-F30C-4FC5-AFD4-F73820C810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