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44031"/>
        <c:axId val="68995059"/>
      </c:barChart>
      <c:catAx>
        <c:axId val="21744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95059"/>
        <c:crosses val="autoZero"/>
        <c:auto val="1"/>
        <c:lblAlgn val="ctr"/>
        <c:lblOffset val="100"/>
        <c:noMultiLvlLbl val="0"/>
      </c:catAx>
      <c:valAx>
        <c:axId val="68995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44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ACD-A00C-409F-BBE5-ECCFCE25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67C-E758-4145-A2B7-BC0EBA84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12A1-CC38-4845-AE71-D3A9A3D7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A1B0-16DD-4684-80B8-F0A40ADD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3C06-C6FE-4B2C-A525-F5398AC2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BEB-891D-4403-AB34-37B52E43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1BFE-FFD6-413C-9448-C87FDD0D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FA8-E1BE-49BC-B461-D131F875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4B7-1A66-4811-A0FB-B530293E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C88-5CE9-4AE8-85FF-FF259381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C3E-1A21-4E6A-ACA6-33D7CD22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5FC-FACD-4639-8F6C-09F7741F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AD48F-02ED-424E-8ED9-F4107CE838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