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913"/>
        <c:axId val="42106918"/>
      </c:barChart>
      <c:catAx>
        <c:axId val="438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06918"/>
        <c:crosses val="autoZero"/>
        <c:auto val="1"/>
        <c:lblAlgn val="ctr"/>
        <c:lblOffset val="100"/>
        <c:noMultiLvlLbl val="0"/>
      </c:catAx>
      <c:valAx>
        <c:axId val="42106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2C9-FB5A-4922-B15D-891C74B6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491-5832-4395-A3DE-51CEC10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079-414A-4E37-A123-7907E4BF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C15-F280-487A-8310-08B00464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489-E61E-412B-8F53-A5B0B52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111-BACC-4DB1-A35A-2870E3F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9E8-78A9-4FD9-B296-393EC41C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B4D-2396-46B7-A658-F4FE0AD2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6F6-9AD2-4A7F-B694-A94B480F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BCA-AB8E-4F1A-99C7-43ADFB1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FF4-C0B6-4CF8-8674-0FBD318C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C3C-46A2-4971-84A7-7637F4C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DCB7D-95E7-4427-99E4-DDCBAFB3BF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