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76393"/>
        <c:axId val="35243634"/>
      </c:barChart>
      <c:catAx>
        <c:axId val="11976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43634"/>
        <c:crosses val="autoZero"/>
        <c:auto val="1"/>
        <c:lblAlgn val="ctr"/>
        <c:lblOffset val="100"/>
        <c:noMultiLvlLbl val="0"/>
      </c:catAx>
      <c:valAx>
        <c:axId val="35243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76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67A-67AB-4856-82C2-F2BD2B08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732-465C-45E1-A71D-54397438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3B3-CD21-4908-A1DA-0FD3F549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517-6B3B-478C-A31E-AB1FB714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1B7-4909-4843-8B28-4AA400E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602-A53E-4898-A0AF-53A00992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E84-E3F0-4F46-9702-58717454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D0B-23C4-4B5A-A0D4-68985EA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049-A951-4676-8AE5-FA2B6EED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121-B2F8-4514-874E-74885B9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C9C-76DA-4507-87EE-679F214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9F3-6960-4747-828C-9450F449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76069-571C-41C8-9095-87613D798E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