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53402"/>
        <c:axId val="49230970"/>
      </c:barChart>
      <c:catAx>
        <c:axId val="14453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30970"/>
        <c:crosses val="autoZero"/>
        <c:auto val="1"/>
        <c:lblAlgn val="ctr"/>
        <c:lblOffset val="100"/>
        <c:noMultiLvlLbl val="0"/>
      </c:catAx>
      <c:valAx>
        <c:axId val="49230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53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B70-4529-4B5A-B3A2-373A3B19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6DE-1D49-44AD-B912-52E0038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B0C-BFC7-4286-A614-08ABE4AB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324-1210-45CF-91FE-2D7DCCF9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93E-1D91-4D0E-B71C-F63AF83D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682-33D7-4410-BED2-0165CE45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EE3-6C53-4AD3-82B9-D876F13E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19D-F3EC-42AD-8F5F-7D7DFB72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AF0-C3A1-4C6B-94C8-D4D71363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1BD-C3E7-4A43-977E-3F5F6B9F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060-D218-4333-9842-26EC3866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2DB-A4A6-46AA-A48E-5CA6E998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BCFCF-A9D1-478E-92B6-905E482D37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