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61226"/>
        <c:axId val="10792753"/>
      </c:barChart>
      <c:catAx>
        <c:axId val="81661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92753"/>
        <c:crosses val="autoZero"/>
        <c:auto val="1"/>
        <c:lblAlgn val="ctr"/>
        <c:lblOffset val="100"/>
        <c:noMultiLvlLbl val="0"/>
      </c:catAx>
      <c:valAx>
        <c:axId val="10792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61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72D-AB43-4FE8-971D-2C721624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8B4-2AF1-48FC-BE00-0198ACDA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095-38DC-404C-9684-FA440960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323-9292-4AE6-9FE4-856993CF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78F-1D0C-4DB1-B016-4C08B7A4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6E9-C5CF-4B9D-99AE-B656F584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FD9-358B-4CC2-ACD7-26D5CD6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6BB-4909-450C-B27A-729750AA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CAB-C29C-4EEA-9A7F-ADC4B0F7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673-F922-4D77-857D-6FD701F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788-6A81-4937-9F0E-5580B33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FCF-2CFD-453B-9968-977132F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2F368-401C-4F0C-B5CF-05080566D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