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64859"/>
        <c:axId val="34288212"/>
      </c:barChart>
      <c:catAx>
        <c:axId val="437648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88212"/>
        <c:crosses val="autoZero"/>
        <c:auto val="1"/>
        <c:lblAlgn val="ctr"/>
        <c:lblOffset val="100"/>
        <c:noMultiLvlLbl val="0"/>
      </c:catAx>
      <c:valAx>
        <c:axId val="34288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648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F64-AF9C-4DE6-BC84-4CC17987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621-B611-452B-AF06-62BF9FAE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B87-2F4B-4E82-98AD-41A7D109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7939-106D-4EB7-98B4-34853393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F5B0-9084-4DA9-9139-B2A26FE8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FA5D-BB14-49D4-922B-B17F8504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AEC2-2EBC-44EB-B6EA-646B9D38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3E31-BE1A-47FA-A2A9-C141268F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3F3-9329-464E-BE24-FD20347C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D246-9078-43EB-84FB-88D500C2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637-B892-42A5-84D8-2B5AD1A3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BCC2-F38D-4E29-B165-7C458D4D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A0B70-0047-4075-A453-C39A944149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