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91456"/>
        <c:axId val="99987850"/>
      </c:barChart>
      <c:catAx>
        <c:axId val="71691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87850"/>
        <c:crosses val="autoZero"/>
        <c:auto val="1"/>
        <c:lblAlgn val="ctr"/>
        <c:lblOffset val="100"/>
        <c:noMultiLvlLbl val="0"/>
      </c:catAx>
      <c:valAx>
        <c:axId val="99987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91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CA6-70EA-438F-9DDA-B36F7F2C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A72-7E75-45D0-BD2F-13F6FBB8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7D4-8989-4646-9B18-0C3A766D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015-E1A7-46F6-A8C2-F671E049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26B-22B5-4DFE-9D67-B1430120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31B6-CCFC-419B-ABA1-C76828BD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BF6-5011-4C89-9E3A-679FB16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0CC-75DD-4CC6-89BD-7EA1527F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120-FF47-4F32-BEDB-79892D58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F4C-0938-4E11-8423-D0DD56EC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FF7-0FEE-49FA-919B-ABBE03C4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75A-96F7-4108-8502-6B6A4D84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B81EE-7797-4C2A-88B2-3F60F1C3F6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