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75643"/>
        <c:axId val="5849053"/>
      </c:barChart>
      <c:catAx>
        <c:axId val="64075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053"/>
        <c:crosses val="autoZero"/>
        <c:auto val="1"/>
        <c:lblAlgn val="ctr"/>
        <c:lblOffset val="100"/>
        <c:noMultiLvlLbl val="0"/>
      </c:catAx>
      <c:valAx>
        <c:axId val="5849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75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31B-34AE-4E7F-8FE3-2FEDF69F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C48-E770-491A-A820-738DA6B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338-C981-492F-908B-E561B637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1C6-6F28-4F4B-9D28-1E2AEB7B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C3A-BD50-4297-A812-5424F9C8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CDB-DDB8-4019-BCE4-71DE2E83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728-26A9-4F92-8C77-58055EC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0E4-3FFA-4156-8CA8-8DDFB18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75D-7630-45A0-9CF4-A76F16E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95C-7083-4C28-B0B6-C5A1ACDB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2C3-6696-41CA-B130-2C5760B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AE0-4B19-47C4-B1A2-883AF37C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C4165-7706-4905-B605-D561D2080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