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84304"/>
        <c:axId val="57129282"/>
      </c:barChart>
      <c:catAx>
        <c:axId val="75084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29282"/>
        <c:crosses val="autoZero"/>
        <c:auto val="1"/>
        <c:lblAlgn val="ctr"/>
        <c:lblOffset val="100"/>
        <c:noMultiLvlLbl val="0"/>
      </c:catAx>
      <c:valAx>
        <c:axId val="571292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84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C8A-A1F1-40FB-8869-77EA9C24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F20-92B9-4BEB-9CFB-301B6332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F6F-8618-4B7B-9EAB-D73D56E2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2DA-FEE8-42C1-AB9B-C65D0EE3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6ED-2123-4DC7-B915-166C52D8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853-770F-4AB1-A9E4-B8ACB543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BA9-6F6C-46FB-BE13-7017547D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FAA-567F-495C-845B-B246333E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553-0BC0-4D66-B361-0169D9D7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0BA-585C-4AF8-94CC-D9BECAB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38DE-8282-43DF-B46E-64025E07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206-8068-4A21-9945-448CF07A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B71FC-DED1-4F13-8E4E-31ABAC367C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