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90796"/>
        <c:axId val="31972269"/>
      </c:barChart>
      <c:catAx>
        <c:axId val="58090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72269"/>
        <c:crosses val="autoZero"/>
        <c:auto val="1"/>
        <c:lblAlgn val="ctr"/>
        <c:lblOffset val="100"/>
        <c:noMultiLvlLbl val="0"/>
      </c:catAx>
      <c:valAx>
        <c:axId val="31972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90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C6A-1115-4239-A57C-9C153328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4AC-1DC8-4BD4-B092-4E24F2CA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668-AB4E-486A-A554-F5FF4F17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498-481D-4ED9-AE23-B83140DB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525-E884-43DB-84BE-6E931E93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52F-2A7E-4E1B-A5C2-A3FFA79D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D04-7004-4C2D-8979-116D04D7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E0B-ED7D-4AAA-9567-2576BAE3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3C3-611F-4163-8884-AC98BDB7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60F-B1E5-4C0C-9626-339A840E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676-C44C-4D56-BECF-5CADC47B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6B9-60B9-4022-81B9-DCCD5A31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7CB57-FE1F-48D1-A4EA-5B8EC704E1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