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91584"/>
        <c:axId val="8432479"/>
      </c:barChart>
      <c:catAx>
        <c:axId val="23691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2479"/>
        <c:crosses val="autoZero"/>
        <c:auto val="1"/>
        <c:lblAlgn val="ctr"/>
        <c:lblOffset val="100"/>
        <c:noMultiLvlLbl val="0"/>
      </c:catAx>
      <c:valAx>
        <c:axId val="84324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91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7AE0-3D56-4CD0-8C62-E9BD8332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918B-CBB7-4D00-B2D1-CD6B52EC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EA36-2B81-4C9E-B008-3CD48F07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539-A783-4451-8549-4F2A924B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A65A-6C58-40E7-9AFB-1209B5BF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C3DB-E02A-453E-B9AB-16EA9CE4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73FF-715F-4794-960B-C3D809E2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36A8-240F-4591-8858-5214247F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56F0-8990-4058-8E6A-01A7C004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6120-06F5-4F17-805E-D21D5E96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3D5-FF40-4E82-8BFB-21598914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60ED-7718-455D-A7E3-5059A2D4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00EB1-C850-4648-8CFD-6DB5F40D7C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