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79477"/>
        <c:axId val="28779023"/>
      </c:barChart>
      <c:catAx>
        <c:axId val="304794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79023"/>
        <c:crosses val="autoZero"/>
        <c:auto val="1"/>
        <c:lblAlgn val="ctr"/>
        <c:lblOffset val="100"/>
        <c:noMultiLvlLbl val="0"/>
      </c:catAx>
      <c:valAx>
        <c:axId val="28779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794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D595-19F7-4AEB-BC47-C6DF9B36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B63-FC41-4424-940B-2EF61296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E10-8636-45ED-B890-158A2429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66C-D566-4380-999F-3E9F4441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025-9BE4-451E-8147-61BE8F69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2982-3088-45E3-AD37-1F7A8E31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D0C9-6122-48E8-B0B7-5E8E9806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58BC-4A61-45A9-B7BD-51FD5E99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52C-0474-4973-B1A6-E4188AD9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F20-2E4B-4EC4-9A49-A0236455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77CA-EE65-4DCE-A651-AF7BB86F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88B6-F5A7-4E6D-9A46-D13504CB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53823-EE83-45AB-BD71-C03785DCBB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