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83115"/>
        <c:axId val="63322731"/>
      </c:barChart>
      <c:catAx>
        <c:axId val="27983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22731"/>
        <c:crosses val="autoZero"/>
        <c:auto val="1"/>
        <c:lblAlgn val="ctr"/>
        <c:lblOffset val="100"/>
        <c:noMultiLvlLbl val="0"/>
      </c:catAx>
      <c:valAx>
        <c:axId val="63322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83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A05-5DAE-471E-8EC7-A855B984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7DC-80FD-4B47-A076-E8D40D1B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D3E-D6EE-4D5F-8B91-C0A5F5E6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D74-602C-4A81-9C8B-6D542F26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973-98D6-46F6-A748-B881BB07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10B-CE37-4F5B-9EAB-8FA71D3C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83F-8D21-4A77-AF8D-69E5AD34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605-210F-4E9C-8221-ADB750FB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C64-3C9A-4704-A8B0-F07EBFA9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9BF-2DB2-4388-9B50-7FED52D4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310-7742-4A28-8894-43D6D464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EC4-B6A0-41E7-82C5-B2FB214E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22295-760C-4CAD-8ECF-FE2AA12E2A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