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02112"/>
        <c:axId val="76409551"/>
      </c:barChart>
      <c:catAx>
        <c:axId val="58402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09551"/>
        <c:crosses val="autoZero"/>
        <c:auto val="1"/>
        <c:lblAlgn val="ctr"/>
        <c:lblOffset val="100"/>
        <c:noMultiLvlLbl val="0"/>
      </c:catAx>
      <c:valAx>
        <c:axId val="76409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02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362-4178-4991-843D-578A6C6F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B62-9BF9-4791-94D0-A613EC14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157-8D40-46AF-9F01-0EDD84EA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1A4-114E-4274-BED3-C6F956EF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215-6D40-4181-B6AB-C4AFA0BA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F26-9072-4F29-B61F-D3835E00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20A-B530-4AD5-A0A6-15CCBA81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FAA-64D2-4C02-8137-913E7CB3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838-71A6-4492-B330-20EA6F68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10A-E62E-4DA4-99D8-ECE93E19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F7E-F4FF-4240-9056-173DA5EE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B90-398D-43C8-A7D4-5291FCBF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E8B1E-B7E5-41F2-AE44-4ED3A6BCE6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