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7423"/>
        <c:axId val="87685683"/>
      </c:barChart>
      <c:catAx>
        <c:axId val="6407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85683"/>
        <c:crosses val="autoZero"/>
        <c:auto val="1"/>
        <c:lblAlgn val="ctr"/>
        <c:lblOffset val="100"/>
        <c:noMultiLvlLbl val="0"/>
      </c:catAx>
      <c:valAx>
        <c:axId val="87685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7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F3F-B014-4D73-B51D-776BB479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3F3-FBDB-4421-92BD-BED52AC1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481-3DF9-4FBE-9682-69DCD44A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B7A-09F6-44DF-8802-2848BD49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9D7-847A-40E2-9D87-F91069BF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62D-034C-4709-9869-3AD428FD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902-7D54-41F7-AD25-5E7D79E9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3FB-5D13-4CE3-84C5-635A421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58-3EF4-4AE8-92FC-A94200B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E70-55E3-4AB4-8BDF-F9A85B4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632-4F38-40BF-81EF-8BC4ED2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1EB-230D-49E4-BCA7-BA45F04E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82727-C6F0-415F-946B-1174B3851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