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05729"/>
        <c:axId val="92339646"/>
      </c:barChart>
      <c:catAx>
        <c:axId val="73105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39646"/>
        <c:crosses val="autoZero"/>
        <c:auto val="1"/>
        <c:lblAlgn val="ctr"/>
        <c:lblOffset val="100"/>
        <c:noMultiLvlLbl val="0"/>
      </c:catAx>
      <c:valAx>
        <c:axId val="92339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05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098-816C-4A6C-8195-C55001D5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0DF-7D5C-473C-8913-FFF6E153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092-54BB-4510-AFBD-2C33842B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8BC-8418-4CB0-85C0-CBB27E19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309-F73E-4992-9777-75BC263D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82D-E94F-44EF-831B-036C8323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BE1-23C9-4387-8BDC-93FE2590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F93-75E5-4FD2-BCDE-71FFC82E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FFC-95AD-42BC-96F2-C2E29CAE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4F3-CF9F-49B7-8028-3E50E63F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55C-4BEF-477A-9EDA-7D721C5F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5DF-E6C8-4E44-BF55-010A97E6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B0185-F212-49C7-806F-65560A26DF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