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00594"/>
        <c:axId val="14880641"/>
      </c:barChart>
      <c:catAx>
        <c:axId val="81005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80641"/>
        <c:crosses val="autoZero"/>
        <c:auto val="1"/>
        <c:lblAlgn val="ctr"/>
        <c:lblOffset val="100"/>
        <c:noMultiLvlLbl val="0"/>
      </c:catAx>
      <c:valAx>
        <c:axId val="148806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05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2D8D-A575-4963-A463-EBBDECC5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1A8-34A9-473F-949B-F4F46F71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C1A9-7C66-4CDA-B78D-DB6C8126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7A18-53C4-4CD9-8F29-43AA6434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0AE8-7B27-48F0-9EF4-2C8C04FE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C730-D296-4D05-A7A1-EA3B3736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35E2-1C48-4E29-B8EA-56EBE827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495C-E320-43AD-B815-93A8671C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550C-F347-45AC-8C6E-CD9DDE7C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C353-E969-410D-B837-476BC849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065A-764F-4C8B-B364-21B22E8C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628B-9305-4A72-BEC7-33283674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AFF6A-6B66-4F44-9805-520D6BC956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