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57036"/>
        <c:axId val="23061252"/>
      </c:barChart>
      <c:catAx>
        <c:axId val="99570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061252"/>
        <c:crosses val="autoZero"/>
        <c:auto val="1"/>
        <c:lblAlgn val="ctr"/>
        <c:lblOffset val="100"/>
        <c:noMultiLvlLbl val="0"/>
      </c:catAx>
      <c:valAx>
        <c:axId val="230612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570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5B7C-EF6C-4541-B8F4-B3C3BB431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E7A4-42CD-408D-A87A-5C0C3A235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0B34-B0DF-4314-8DC9-5BE77074D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0D92-36A3-4506-AC43-F7024CA3A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72B4-A531-4288-8404-B5526F6C9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91DE-AFCA-48B3-8182-E256D3174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A163-67B2-4B17-8930-66434FACC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2D2B-9B34-4D44-8E4E-78DEB41E3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3AAB-57B7-48C3-8A52-C0937D842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1244-8722-472F-9220-55B917C7D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84CA-53DA-466F-B175-7780346BD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A03D-68E3-4AA5-A1FA-612787142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BA9D78-689B-4DFF-A654-71364FDB19E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