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72112"/>
        <c:axId val="93182426"/>
      </c:barChart>
      <c:catAx>
        <c:axId val="50372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82426"/>
        <c:crosses val="autoZero"/>
        <c:auto val="1"/>
        <c:lblAlgn val="ctr"/>
        <c:lblOffset val="100"/>
        <c:noMultiLvlLbl val="0"/>
      </c:catAx>
      <c:valAx>
        <c:axId val="93182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72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7F8-80E6-4627-A803-B4F9F7B8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308-A6AD-4294-8D95-45558EAA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861-1D6D-4E90-95FE-039DA74D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A00-AA26-43A6-8CE9-CA252C0A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8A6-2AF9-4832-AED7-4E5CFA24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483-6997-4008-A8B1-DDE42DD8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B72-9721-4E77-98D1-6E8ADD3A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5A9-2CEA-4DA7-9DDA-7D0ADEF5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2FD-C3CB-47B1-9EDC-755F2772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F22-3555-4B84-B8F5-CD998355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8D8-690D-4916-A416-BE26F2A8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BD3-83AC-4D03-8B7A-FE22135C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718BE-6EB4-404B-8030-B2732778CC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