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99858"/>
        <c:axId val="79772830"/>
      </c:barChart>
      <c:catAx>
        <c:axId val="6709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72830"/>
        <c:crosses val="autoZero"/>
        <c:auto val="1"/>
        <c:lblAlgn val="ctr"/>
        <c:lblOffset val="100"/>
        <c:noMultiLvlLbl val="0"/>
      </c:catAx>
      <c:valAx>
        <c:axId val="79772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9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B4D-952B-4289-9016-48D84197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779-B339-4F67-B44B-E9957BF1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744-E336-458F-9E40-0C1B9EE1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875-A81E-4862-A959-7694FAC5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985-CBC0-449F-8A4A-83777D21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05A-3C6C-41AD-9C9A-A3C5031C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984-426C-4521-92F1-DA203FE4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E6C-5E8D-4D1B-A709-518C99A3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95C-6E9E-482A-BEFB-FE376E85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B1F-9212-4B42-B291-93EC49C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5BA-804E-403E-9FF5-B3310480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EEC-7A00-4749-BF63-FEDF893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2E973-60A6-43FF-B074-F8B21B0ADA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