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41365"/>
        <c:axId val="29724113"/>
      </c:barChart>
      <c:catAx>
        <c:axId val="72741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4113"/>
        <c:crosses val="autoZero"/>
        <c:auto val="1"/>
        <c:lblAlgn val="ctr"/>
        <c:lblOffset val="100"/>
        <c:noMultiLvlLbl val="0"/>
      </c:catAx>
      <c:valAx>
        <c:axId val="29724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1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EC5-2433-404D-B259-2BB0BA52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1D9-C96B-482A-9E7B-1407FD5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BAA-653E-4464-9142-CB2491D2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39D-EE3C-41BD-91DC-200104DC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1C8-0ED7-4996-833F-9EEB455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021-83B6-46B3-8BE6-3D0016F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82D-66A8-44C0-99ED-7D0B10C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CB1-7CAD-401D-AAAD-D52B836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54D-77B2-45DD-8184-2B2B5B55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A56-6A03-4F08-93B1-67A12D4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943-6EB5-45FE-ABDB-D817EA4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4DE-F56B-43B7-87A9-5975D7A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D10F4-05EC-4FC9-BAF9-1F5511E1E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