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40773"/>
        <c:axId val="96529968"/>
      </c:barChart>
      <c:catAx>
        <c:axId val="42540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29968"/>
        <c:crosses val="autoZero"/>
        <c:auto val="1"/>
        <c:lblAlgn val="ctr"/>
        <c:lblOffset val="100"/>
        <c:noMultiLvlLbl val="0"/>
      </c:catAx>
      <c:valAx>
        <c:axId val="96529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40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811-9CBA-467A-A47A-C9C2598A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351-AB2D-410B-B075-60C91D99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C5E-E7FD-4CED-ACFA-B7D77BAB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112-1231-488D-99A4-79661824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FA4-8272-41DE-8505-84665C24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AB0-BE01-4D3F-A4C7-E4E8103B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19B-FA04-49F8-92F6-6126FBC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9CB-6B50-4803-B7C7-B0D41B00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B1E-E4EC-4A16-87B9-6FFD466E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676-B17E-4287-926D-EE947532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82A-F363-406C-B136-893AF7AB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0F7-C8EE-427C-B840-515305C5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4E08E-BC95-4013-965D-DFCB25B898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