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59050"/>
        <c:axId val="47528461"/>
      </c:barChart>
      <c:catAx>
        <c:axId val="82159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28461"/>
        <c:crosses val="autoZero"/>
        <c:auto val="1"/>
        <c:lblAlgn val="ctr"/>
        <c:lblOffset val="100"/>
        <c:noMultiLvlLbl val="0"/>
      </c:catAx>
      <c:valAx>
        <c:axId val="47528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59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271-9D7C-4C13-9BB9-140DF9B5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F75-A76B-4A88-B21F-E3FFA77E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DF3-A95A-46EE-A72D-70E4970C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3DF-C7F0-499C-B0F3-89F831F9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677-4B3F-499B-A3B5-D682E69E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6D6-EC7B-4B25-A96B-D652620F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585-FCB8-4060-9EA5-5F77EFBA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7BC-3F76-4072-A2DB-B7E7FA4A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CF3-1C90-493D-94B7-8FCD1CCC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722-41FC-4236-90FD-F0F91135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631-015E-4395-BE53-80537D02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F7D-19C1-41CA-86FC-27220E9B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D90F0-4EE8-41EB-BCB2-4F4A047303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