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27771"/>
        <c:axId val="25447762"/>
      </c:barChart>
      <c:catAx>
        <c:axId val="42527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7762"/>
        <c:crosses val="autoZero"/>
        <c:auto val="1"/>
        <c:lblAlgn val="ctr"/>
        <c:lblOffset val="100"/>
        <c:noMultiLvlLbl val="0"/>
      </c:catAx>
      <c:valAx>
        <c:axId val="25447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27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492-30BB-4FC8-B5AF-45EEA075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53E-44C2-40FB-A33F-65080F07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DE8-90DA-477E-8F35-A3267396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FC3-B73A-40F9-A9F1-A3BF6ADD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182-353F-4E91-8D69-44363C81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F9B-E88E-4F63-96DE-A1104AFD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24E-FDDB-4DB8-81E7-FCC12CE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318-35A7-450F-835D-3F2C3A2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9D0-760D-499A-8BA5-77B4316D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69C-7989-4849-BB6D-0418B6E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854-EC45-4536-B21B-8EB3C5B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029-DE20-4105-9EC0-F4B6F786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4D7F2-9535-4FEE-A010-32F1A0DA0D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