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19206"/>
        <c:axId val="29438238"/>
      </c:barChart>
      <c:catAx>
        <c:axId val="29919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38238"/>
        <c:crosses val="autoZero"/>
        <c:auto val="1"/>
        <c:lblAlgn val="ctr"/>
        <c:lblOffset val="100"/>
        <c:noMultiLvlLbl val="0"/>
      </c:catAx>
      <c:valAx>
        <c:axId val="29438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19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C4F-60D6-422D-821C-CB72FE4E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280-2D62-42B1-9C54-04279A6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AF1-2C10-435D-A78A-5E26A52D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44D-D253-42BF-AAA2-EC616E7B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E45-849E-4D96-AF7A-5CF36D06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468-5DD2-4C15-8917-B6161326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5A4-275A-438F-95FB-7DC52D5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F9C-DB01-4873-ADD5-CCBEE252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85A-1E44-4D9C-8855-7EF23325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110-EF5C-4C31-A1AA-065A6A0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8E7-FC15-4F96-907D-79EBEF3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3B9-6539-45F9-BD81-BAF4B9A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F23FA-95FF-49C8-9507-F7AB461BB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