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51567"/>
        <c:axId val="72516230"/>
      </c:barChart>
      <c:catAx>
        <c:axId val="16351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16230"/>
        <c:crosses val="autoZero"/>
        <c:auto val="1"/>
        <c:lblAlgn val="ctr"/>
        <c:lblOffset val="100"/>
        <c:noMultiLvlLbl val="0"/>
      </c:catAx>
      <c:valAx>
        <c:axId val="72516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51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454-B61E-41E8-B172-1093C8F7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806-3717-446F-8B65-D0CC1CC3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04D-5CE2-4271-A45A-7D0A83BD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FC8-9EB2-4707-8AD8-BCC1EDF2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738-82BA-484E-B99C-730159C2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FE9-F533-44B4-9809-9CE9A144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2F8-913B-4C22-90BC-79C3876A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6AC-EFF1-47AB-85F2-8B00064C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1C0-D8D6-48BA-808E-AB29D76D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065-97B6-4BDE-924E-8A5D9D49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D6E-D27E-4A2F-A98E-7589288A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BD3-F90B-4FB3-BF83-79E3E38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FF4FA-5D29-4A8C-98BF-3A28480CD0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