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706262"/>
        <c:axId val="12128428"/>
      </c:barChart>
      <c:catAx>
        <c:axId val="347062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28428"/>
        <c:crosses val="autoZero"/>
        <c:auto val="1"/>
        <c:lblAlgn val="ctr"/>
        <c:lblOffset val="100"/>
        <c:noMultiLvlLbl val="0"/>
      </c:catAx>
      <c:valAx>
        <c:axId val="121284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062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56DE-D423-4BA8-8ADB-22EE1BFF3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73BE-EF66-4A56-ACF7-26E22EBA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1A5B-188D-4E8C-A34E-B85BCA52E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F693-6EB2-4D4C-9FF6-3BE3CD678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E434-EF06-43E0-9D67-7F9CB239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3BDE-4D72-44DA-8D52-1F5ED186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B874-6F8E-4B50-B47C-0455E5D8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1C00-DF8C-4AF7-8DB6-C0E2709D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CB6B-F2EE-4A25-A79A-ABC2B358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8CF4-ECFE-44D9-A587-ADAD2BB4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387E-3703-4ABB-BD29-A29AE526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8E30-445C-42F0-952A-9D8A068D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43ED1-E0EB-410A-817A-6541906AA7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