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040205"/>
        <c:axId val="80437412"/>
      </c:barChart>
      <c:catAx>
        <c:axId val="980402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437412"/>
        <c:crosses val="autoZero"/>
        <c:auto val="1"/>
        <c:lblAlgn val="ctr"/>
        <c:lblOffset val="100"/>
        <c:noMultiLvlLbl val="0"/>
      </c:catAx>
      <c:valAx>
        <c:axId val="804374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402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B4AD-5B62-4ED9-ACC8-6D3BF1049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B790-D391-4257-A2A8-AB71B2CA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7095-916B-4305-A092-8D4EE1617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D1DA-ED4A-474C-AA32-12F330824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32AC-71DD-4B64-BF7A-C51AE404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9E3C-C54F-4E0D-AA2B-10104559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AC18-214F-4764-9587-1EF2EE63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90A8-0CAF-4355-BC79-7297DC1F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8439-5E7B-4FD2-B4D3-2F0E161C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5E1C-3472-4BA5-8B52-0C0E2999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5C1C-012B-450B-9951-B1834277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6035-2C66-4C3F-9EFD-85BA902B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1D6EBE-4BA4-4E1C-A5AA-DAF9F0BB2F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