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938862"/>
        <c:axId val="99741290"/>
      </c:barChart>
      <c:catAx>
        <c:axId val="399388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741290"/>
        <c:crosses val="autoZero"/>
        <c:auto val="1"/>
        <c:lblAlgn val="ctr"/>
        <c:lblOffset val="100"/>
        <c:noMultiLvlLbl val="0"/>
      </c:catAx>
      <c:valAx>
        <c:axId val="997412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9388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612A-203F-4BA6-BF2D-54696EFD5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7420-EEEA-48D3-913D-FB5C60E4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6F98-6C5A-4E8B-845F-EFEAD5C06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BA0B-6AFB-4CD9-AB78-DDAE9CEB9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4128-EE78-40E6-AB22-99CCAF45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1F39-6C2E-42C1-9453-69A916F8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0FB4-280D-42AC-A687-080643CC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0559-A5D4-45F9-83FD-6BD8B1CD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1EE9-0DEA-42B9-B289-1B302658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A77B-1BA7-456B-AFF9-AE2475BE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B7B7-41FD-4EE8-9FEB-4DD9293A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D1A1-D349-4AD9-8CA5-0C077EEE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301F22-707B-4DC4-B4A7-2C76AA8B39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