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05848"/>
        <c:axId val="88759510"/>
      </c:barChart>
      <c:catAx>
        <c:axId val="72905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59510"/>
        <c:crosses val="autoZero"/>
        <c:auto val="1"/>
        <c:lblAlgn val="ctr"/>
        <c:lblOffset val="100"/>
        <c:noMultiLvlLbl val="0"/>
      </c:catAx>
      <c:valAx>
        <c:axId val="88759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05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19C-9A16-45D3-BD65-53F0C59D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00F-9A55-4509-BA68-ED6C953F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180-1071-43F9-AC43-FD5D24DB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3AA-2A54-4F36-B228-04187664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529-E84C-402E-A019-44A4B275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C01-0BB2-48AC-802D-A664DADD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9D2-55E2-46D3-A5F2-8580E29A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7A3-66EF-48BD-AB00-842C782B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F53-D661-40B3-8AFD-2ABE56AC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5C6-BABE-4984-A4AD-BE9667D6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CE7-54FB-4789-86DA-4FC761D3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F5C-3C41-4B5B-9063-727A5E33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0365C-D175-4427-8F9D-53FD02B722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